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73462"/>
        <c:axId val="43166409"/>
      </c:barChart>
      <c:catAx>
        <c:axId val="30173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66409"/>
        <c:crosses val="autoZero"/>
        <c:auto val="1"/>
        <c:lblAlgn val="ctr"/>
        <c:lblOffset val="100"/>
        <c:noMultiLvlLbl val="0"/>
      </c:catAx>
      <c:valAx>
        <c:axId val="43166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73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66C-D7B4-433C-A181-C9577261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05B-84AE-4257-BAF0-C81DDCB1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321-7213-4AF5-811C-583576B3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2E0-2212-498C-9ADE-0EB857C8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B7F-9550-46C2-86FD-B9286687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B32-02F1-4F32-9002-7194D9D0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AFD-DE62-40EF-9517-3AC875C8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750-F033-4F71-A46C-24B9CBB9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253-07DA-4561-AD8C-D25916E0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994-D108-423F-B731-FCC13E84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46E-6042-44BE-8881-2453DB9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1F1-F083-411D-9D6F-1CF6729B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37503-FF9B-4AF6-AD32-A50C81F323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