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36657"/>
        <c:axId val="66438357"/>
      </c:barChart>
      <c:catAx>
        <c:axId val="91236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8357"/>
        <c:crosses val="autoZero"/>
        <c:auto val="1"/>
        <c:lblAlgn val="ctr"/>
        <c:lblOffset val="100"/>
        <c:noMultiLvlLbl val="0"/>
      </c:catAx>
      <c:valAx>
        <c:axId val="66438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6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830-368A-4617-AB2B-2DA1A127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05E-E4EF-43B6-A282-AEE44ED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367-39E0-4809-A2D9-C3F613C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6AD-CE59-481E-AE38-C0906231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AF4-B4F8-4303-8C6E-47B5354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EB7-51C7-43F0-91B6-7F84370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143-A7CE-4AEC-89D5-E99E263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EFA-7D9E-407B-97EB-BA8B982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C77-9698-45AE-B3AD-2C644766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EA0-916F-4AF7-ADFD-F314157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83E-56A7-4EA7-A89B-2BD7245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F0A-4221-4048-B36F-106941D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090A-5CB7-40BA-A037-DD2C5DC27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