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93406"/>
        <c:axId val="12888666"/>
      </c:barChart>
      <c:catAx>
        <c:axId val="884934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88666"/>
        <c:crosses val="autoZero"/>
        <c:auto val="1"/>
        <c:lblAlgn val="ctr"/>
        <c:lblOffset val="100"/>
        <c:noMultiLvlLbl val="0"/>
      </c:catAx>
      <c:valAx>
        <c:axId val="12888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934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7E53-0DF7-4DDC-92CF-BDBFD2A4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64A-8D02-4799-9266-FC401AD5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2F6-1744-4A9D-9BDE-A519A1ED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4F3-488E-4FA7-B6EF-569A1831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775-96EE-4EFA-A5AC-34FEC269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B7F-CCE8-4F6C-BDCA-E200B822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A1B-002E-4AAF-A720-392AA96B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116F-0744-49E1-9A17-4F5EC197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360-5DE3-4E11-BABD-4891573A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6DE-EF14-4ED9-AA0A-4DFFD381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C5E-6788-4866-AC20-ED8277C1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4F92-D3E4-4340-927D-A59CA421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D3480-CEBD-49D4-B9BC-A157B2B90C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